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BE2-8752-4F0B-8FE8-A6913A1C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88A-2B84-4CB9-B987-90576CA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71B-2BB8-4362-A836-E0337702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66B-76F1-4A70-98E2-CF1AEB25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A5A-4287-4871-BEDB-D5BE6B99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14B-DBB3-4E79-9DB2-A0133FD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077-50EC-406E-ACA1-31BD2A1F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630-836D-4D4A-A6C8-AC6C78AD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995-A0F7-4127-B54D-3CA99B1F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560-B5B0-4609-88B8-B9BBE64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EC0-8070-43DB-97DC-B367539E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6EC-F53F-4E84-BF8D-96F9C3A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F1B2-6FA1-478C-A9A3-7FC0EDDD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END  50TH                                      I.B.M.                                                I.B.M.                                     INNELLAN                                             INNELLAN                                   INNELLA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NELLAN  150TH                                       INVERKIP                              INVERKIP  100TH                              KILMACOLM                                  KINGARTH                      KIRN  &amp;  HUNTERS  QUAY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0520" y="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1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N                                                       KIRN                                            KIRN                                          KIRN  100TH                                 LADY  ALICE                                LADY  ALIC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31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DY  ALICE  50TH                          LADY  ALICE  75TH                              PARKLEA                                 PARKLEA  50TH                          PORT  GLASGOW                           PORT  GLASG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21600" y="333360"/>
            <a:ext cx="8589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1800" y="1989000"/>
            <a:ext cx="1116000" cy="109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924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9760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60888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193240" y="2349360"/>
            <a:ext cx="841320" cy="8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1800" y="335772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35002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89240" y="3357720"/>
            <a:ext cx="113328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3357720"/>
            <a:ext cx="126180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04852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216160" y="530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31800" y="5084640"/>
            <a:ext cx="1133640" cy="136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657600" y="537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168880" y="537372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608880" y="530064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04852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26028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81600" y="11592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657600" y="26028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2133720"/>
            <a:ext cx="911160" cy="102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549360"/>
            <a:ext cx="109692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216160" y="189000"/>
            <a:ext cx="99864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9:38:52Z</dcterms:created>
  <dc:creator>JOHN YOUNG</dc:creator>
  <dc:description/>
  <dc:language>en-US</dc:language>
  <cp:lastModifiedBy>JY</cp:lastModifiedBy>
  <dcterms:modified xsi:type="dcterms:W3CDTF">2007-10-19T14:04:52Z</dcterms:modified>
  <cp:revision>33</cp:revision>
  <dc:subject/>
  <dc:title>No Slide Title</dc:title>
</cp:coreProperties>
</file>